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417-8C50-485C-8BAC-E7752454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6EC-85A2-4E02-94B3-7E36587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3BE-C484-4E40-83E4-EF1019C5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9D7-B0DB-4403-916F-7B8F3AD0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746-579B-4532-A8C7-DEC62E31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F63-4264-4CD5-9C36-AA50242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BBB-2F9A-4020-9D4D-F4A5F62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774-F154-469F-87E5-8BB4008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E79-E596-4C8F-9BCA-395F9B02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0E4-0CAC-44A1-AD47-7812388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0AA-D31A-4ACC-A4B8-B17B892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79-86D8-4EBB-919C-DA61FFE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BF4-906A-4F6D-8A41-10DFA7B1B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2400" y="279360"/>
            <a:ext cx="88992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2:59:10Z</dcterms:created>
  <dc:creator>Guillermo</dc:creator>
  <dc:description/>
  <dc:language>en-US</dc:language>
  <cp:lastModifiedBy>Guillermo</cp:lastModifiedBy>
  <dcterms:modified xsi:type="dcterms:W3CDTF">2012-04-09T13:00:02Z</dcterms:modified>
  <cp:revision>1</cp:revision>
  <dc:subject/>
  <dc:title>Presentación de PowerPoint</dc:title>
</cp:coreProperties>
</file>